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11F-6BC2-441B-9E20-41646696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226-B5E0-47BD-83C2-9E8BED6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2F8-6510-4B02-8A2F-477ABF57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77B-9D71-47E1-B38B-AE79FB42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1F7-BE70-46F0-88FC-F82BCA97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EF28-21AD-411D-8EA2-6E7C7C4D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1BA-F34A-4A12-98CD-265EE3C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5C1-AB02-497F-9120-295D20E6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DA1F-BEC5-4223-A739-30CA455D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BB1A-22A5-409C-8FEB-49295900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7F45-C0C4-4EE8-9130-94AAC2A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CB8-FA42-4382-A698-0B79E0D5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6DCF-2490-4AB8-B99F-7C4EC425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7C7F-B589-4DE7-97C7-701AF92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D97-1598-46E4-924E-C47A79D2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4E7A-98DA-498B-A0B1-1F80818F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C20-5C61-46A3-8296-98FA02B1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DD1E-0D42-403B-8F74-A3040CCF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6122-153A-4203-BC7E-0C1C34F0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6DE0-3511-43BE-8BA4-83A0169F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1C32-181E-4179-BFA0-FF0C99C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F6FD-05F2-46AD-AFC8-1E1394AB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FD4-363F-4251-BD7B-2D9300E3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8466E-010C-468A-9E74-D3835CF3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858B-01BF-42CB-B45F-691B203D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D1E2-C222-4570-A705-A7CF737A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6C13-EC14-4C87-A9D0-3A19ADF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0C30-5BBB-47D7-B8AA-FC42E364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A9A0-5146-41C8-A21A-E43829FE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D63D-C450-4A04-88B8-3016ED7A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78D-5B9B-475F-B1F1-BB1CCDFF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384-F028-47FF-8701-6DDBBB56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317-0247-4CF7-9A9A-CA54320C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09E-1464-4BB4-BC88-2F6E11BB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791-3E72-4D1A-A6A5-AA733437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8BE-6565-4553-9550-59135BA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3530-9E87-437B-A54B-7E8EA7516B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9737-76E8-4F8B-BA7E-3E1C7B3ADC5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EFDB-0179-49B9-AB24-509CC5E5D8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Tahoma"/>
              </a:rPr>
              <a:t>Геометрия 8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2920" y="3886200"/>
            <a:ext cx="813744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вадра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746440" y="3976560"/>
            <a:ext cx="2390760" cy="22273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3"/>
          <p:cNvSpPr/>
          <p:nvPr/>
        </p:nvSpPr>
        <p:spPr>
          <a:xfrm>
            <a:off x="0" y="3027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 Если в прямоугольнике диагонали ……………………………………………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этот прямоугольник – квад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4"/>
          <p:cNvSpPr/>
          <p:nvPr/>
        </p:nvSpPr>
        <p:spPr>
          <a:xfrm>
            <a:off x="0" y="563400"/>
            <a:ext cx="89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улируйте три признака ква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6"/>
          <p:cNvSpPr/>
          <p:nvPr/>
        </p:nvSpPr>
        <p:spPr>
          <a:xfrm>
            <a:off x="0" y="1238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ромбе ……………………………………………………………………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этот ромб является квадра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979640" y="123840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иагонали 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8"/>
          <p:cNvSpPr/>
          <p:nvPr/>
        </p:nvSpPr>
        <p:spPr>
          <a:xfrm>
            <a:off x="0" y="2260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Если в прямоугольнике диагонали ……………………………………………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этот прямоугольник – квадр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9"/>
          <p:cNvSpPr/>
          <p:nvPr/>
        </p:nvSpPr>
        <p:spPr>
          <a:xfrm>
            <a:off x="4462560" y="207792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0"/>
          <p:cNvSpPr/>
          <p:nvPr/>
        </p:nvSpPr>
        <p:spPr>
          <a:xfrm>
            <a:off x="4498920" y="29541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лят его углы попо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471600"/>
            <a:ext cx="24526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0" y="398520"/>
            <a:ext cx="230508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0" y="361800"/>
            <a:ext cx="23446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Опреде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улируй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ение квадрат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я в качестве ближайшего род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ямоугольник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0" y="160344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ом называют прямоугольник, у которого ……………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7"/>
          <p:cNvSpPr/>
          <p:nvPr/>
        </p:nvSpPr>
        <p:spPr>
          <a:xfrm>
            <a:off x="5740560" y="1639800"/>
            <a:ext cx="35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се стороны 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117360" y="2735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хема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2062080" y="3267000"/>
                <a:ext cx="50421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</m:e>
                    </m:d>
                    <m:limUpp>
                      <m:e>
                        <m:r>
                          <m:t xml:space="preserve">⇔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ямоугольник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е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стороны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равны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Определ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1"/>
          <p:cNvSpPr/>
          <p:nvPr/>
        </p:nvSpPr>
        <p:spPr>
          <a:xfrm>
            <a:off x="0" y="72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ормулируй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ение квадрат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я в качестве ближайшего рода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омб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6"/>
          <p:cNvSpPr/>
          <p:nvPr/>
        </p:nvSpPr>
        <p:spPr>
          <a:xfrm>
            <a:off x="0" y="160344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ом называют ромб, у которого ……………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572000" y="16034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се углы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8"/>
          <p:cNvSpPr/>
          <p:nvPr/>
        </p:nvSpPr>
        <p:spPr>
          <a:xfrm>
            <a:off x="117360" y="2735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хема 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2284560" y="32464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</m:e>
                    </m:d>
                    <m:limUpp>
                      <m:e>
                        <m:r>
                          <m:t xml:space="preserve">⇔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Ромб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е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углы прямые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8"/>
          <p:cNvSpPr/>
          <p:nvPr/>
        </p:nvSpPr>
        <p:spPr>
          <a:xfrm>
            <a:off x="0" y="72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яются ли для квадрата все свойства ромба или сохраняется только часть этих свойст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0" y="207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как квадрат является ромбом, то дл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вадрата сохран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се свойства ром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Св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8"/>
          <p:cNvSpPr/>
          <p:nvPr/>
        </p:nvSpPr>
        <p:spPr>
          <a:xfrm>
            <a:off x="0" y="6541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ислите все свойства квадрата, в форме: « В квадрате …..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В квадрате диагонали …………………………………………………………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 В квадрате диагонали …………………………………………………………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 В квадрате диагонали …………………………………………………………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В квадрате диагонали …………………………………………………………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В квадрате все углы …………………………………………………………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В квадрате все сторо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3002040" y="1311120"/>
            <a:ext cx="38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в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войство прямоуголь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3002040" y="1822320"/>
            <a:ext cx="42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ерпендикуляр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войство ром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2928960" y="237024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лят углы квадрата попола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войство ромб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2928960" y="2954160"/>
            <a:ext cx="74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очкой пересечения делятся попола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вой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ограм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3"/>
          <p:cNvSpPr/>
          <p:nvPr/>
        </p:nvSpPr>
        <p:spPr>
          <a:xfrm>
            <a:off x="2782800" y="3502080"/>
            <a:ext cx="62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ям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 определения через  прямоуголь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3111480" y="4049640"/>
            <a:ext cx="62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в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 определения через  ром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5"/>
          <p:cNvSpPr/>
          <p:nvPr/>
        </p:nvSpPr>
        <p:spPr>
          <a:xfrm>
            <a:off x="0" y="61272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 ли утверждение «Если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четырехугольнике диагонали равны и взаимно перпендикуляр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этот четырехугольник квадр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0" y="2698920"/>
            <a:ext cx="43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ьмем два равных отрезка АВ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7"/>
          <p:cNvSpPr/>
          <p:nvPr/>
        </p:nvSpPr>
        <p:spPr>
          <a:xfrm>
            <a:off x="0" y="339264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они пересекаются под прямым уг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"/>
          <p:cNvGraphicFramePr/>
          <p:nvPr/>
        </p:nvGraphicFramePr>
        <p:xfrm>
          <a:off x="4827600" y="2625840"/>
          <a:ext cx="331452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2625840"/>
                    <a:ext cx="331452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Прямая соединительная линия 29"/>
          <p:cNvSpPr/>
          <p:nvPr/>
        </p:nvSpPr>
        <p:spPr>
          <a:xfrm flipV="1">
            <a:off x="6215040" y="3209760"/>
            <a:ext cx="1440" cy="1533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0"/>
          <p:cNvSpPr/>
          <p:nvPr/>
        </p:nvSpPr>
        <p:spPr>
          <a:xfrm flipH="1" flipV="1">
            <a:off x="5632200" y="3611160"/>
            <a:ext cx="1533240" cy="180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484960" y="357516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7237440" y="357516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215040" y="4816440"/>
            <a:ext cx="2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4"/>
          <p:cNvSpPr/>
          <p:nvPr/>
        </p:nvSpPr>
        <p:spPr>
          <a:xfrm>
            <a:off x="6251400" y="2990880"/>
            <a:ext cx="2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4"/>
          <p:cNvSpPr/>
          <p:nvPr/>
        </p:nvSpPr>
        <p:spPr>
          <a:xfrm>
            <a:off x="289080" y="5729400"/>
            <a:ext cx="159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1"/>
          <p:cNvGraphicFramePr/>
          <p:nvPr/>
        </p:nvGraphicFramePr>
        <p:xfrm>
          <a:off x="4827600" y="2406600"/>
          <a:ext cx="33145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0" y="2406600"/>
                    <a:ext cx="33145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25"/>
          <p:cNvSpPr/>
          <p:nvPr/>
        </p:nvSpPr>
        <p:spPr>
          <a:xfrm>
            <a:off x="0" y="612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 ли утверждение «Если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четырехугольнике диагонали равны и взаимно перпендикуляр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этот четырехугольник квадр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0" y="2698920"/>
            <a:ext cx="43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ьмем два равных отрезка АВ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9"/>
          <p:cNvSpPr/>
          <p:nvPr/>
        </p:nvSpPr>
        <p:spPr>
          <a:xfrm flipV="1">
            <a:off x="6215040" y="3209760"/>
            <a:ext cx="1440" cy="1533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4"/>
          <p:cNvSpPr/>
          <p:nvPr/>
        </p:nvSpPr>
        <p:spPr>
          <a:xfrm flipH="1" flipV="1">
            <a:off x="5630760" y="3575160"/>
            <a:ext cx="1533600" cy="144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7"/>
          <p:cNvSpPr/>
          <p:nvPr/>
        </p:nvSpPr>
        <p:spPr>
          <a:xfrm>
            <a:off x="0" y="339264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они пересекаются под прямым уг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3"/>
          <p:cNvSpPr/>
          <p:nvPr/>
        </p:nvSpPr>
        <p:spPr>
          <a:xfrm>
            <a:off x="0" y="430524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тырехугольн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и перпендикулярны и равны, но этот четырехугольник не квад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5484960" y="357516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8"/>
          <p:cNvSpPr/>
          <p:nvPr/>
        </p:nvSpPr>
        <p:spPr>
          <a:xfrm>
            <a:off x="7237440" y="3575160"/>
            <a:ext cx="21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9"/>
          <p:cNvSpPr/>
          <p:nvPr/>
        </p:nvSpPr>
        <p:spPr>
          <a:xfrm>
            <a:off x="6215040" y="4816440"/>
            <a:ext cx="2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0"/>
          <p:cNvSpPr/>
          <p:nvPr/>
        </p:nvSpPr>
        <p:spPr>
          <a:xfrm>
            <a:off x="6251400" y="2990880"/>
            <a:ext cx="21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32"/>
          <p:cNvSpPr/>
          <p:nvPr/>
        </p:nvSpPr>
        <p:spPr>
          <a:xfrm>
            <a:off x="5632560" y="3200400"/>
            <a:ext cx="1536480" cy="1536840"/>
          </a:xfrm>
          <a:custGeom>
            <a:avLst/>
            <a:gdLst/>
            <a:ahLst/>
            <a:rect l="l" t="t" r="r" b="b"/>
            <a:pathLst>
              <a:path w="1537398" h="1537398">
                <a:moveTo>
                  <a:pt x="582804" y="0"/>
                </a:moveTo>
                <a:lnTo>
                  <a:pt x="0" y="381837"/>
                </a:lnTo>
                <a:lnTo>
                  <a:pt x="587829" y="1537398"/>
                </a:lnTo>
                <a:lnTo>
                  <a:pt x="1537398" y="376813"/>
                </a:lnTo>
                <a:lnTo>
                  <a:pt x="582804" y="0"/>
                </a:lnTo>
                <a:close/>
              </a:path>
            </a:pathLst>
          </a:custGeom>
          <a:solidFill>
            <a:srgbClr val="ffff00">
              <a:alpha val="45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1103400" y="576576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9"/>
          <p:cNvSpPr/>
          <p:nvPr/>
        </p:nvSpPr>
        <p:spPr>
          <a:xfrm>
            <a:off x="254880" y="5181480"/>
            <a:ext cx="205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5"/>
          <p:cNvSpPr/>
          <p:nvPr/>
        </p:nvSpPr>
        <p:spPr>
          <a:xfrm>
            <a:off x="0" y="3940200"/>
            <a:ext cx="85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, что в прямоугольнике все стороны равны. Значит, это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 является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вадрат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………………………………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5"/>
          <p:cNvSpPr/>
          <p:nvPr/>
        </p:nvSpPr>
        <p:spPr>
          <a:xfrm>
            <a:off x="0" y="612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 ли утверждение «Если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 параллелограмме диагонали равны и взаимно перпендикуляр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этот четырехугольник квадра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1322280" y="510840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0" y="1895400"/>
            <a:ext cx="53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параллелограмме диагонали равны, то этот параллелограмм является 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1"/>
          <p:cNvSpPr/>
          <p:nvPr/>
        </p:nvSpPr>
        <p:spPr>
          <a:xfrm>
            <a:off x="3440160" y="2297160"/>
            <a:ext cx="21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ямоуголь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0" y="2844720"/>
            <a:ext cx="869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параллелограмме диагонали перпендикулярны,  то этот параллелограмм является 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4"/>
          <p:cNvSpPr/>
          <p:nvPr/>
        </p:nvSpPr>
        <p:spPr>
          <a:xfrm>
            <a:off x="2965320" y="328284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ом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8"/>
          <p:cNvSpPr/>
          <p:nvPr/>
        </p:nvSpPr>
        <p:spPr>
          <a:xfrm>
            <a:off x="4170240" y="4341960"/>
            <a:ext cx="27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квад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7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вадрат.  Призн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5"/>
          <p:cNvSpPr/>
          <p:nvPr/>
        </p:nvSpPr>
        <p:spPr>
          <a:xfrm>
            <a:off x="0" y="612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 ли утверждение «Если в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етырехугольник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диагонали рав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взаимно перпендикуляр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имеют общую середину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этот четырехугольник квадрат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0" y="1639800"/>
            <a:ext cx="8142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четырехугольнике </a:t>
            </a: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диагонали имеют общую середин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.е. точкой пересечения делятся пополам), то этот четырехугольник является 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1168560" y="24796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араллелограм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0" y="3100320"/>
            <a:ext cx="814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параллелограмме 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диагонали рав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этот четырехугольник является 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4125960" y="346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ямоуголь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0" y="4159080"/>
            <a:ext cx="814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прямоугольнике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диагонали взаимно перпендикуляр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этот прямоугольник является 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3841920" y="456084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вадр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592200" y="5327640"/>
            <a:ext cx="33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1359000" y="52912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4:41:36Z</dcterms:created>
  <dc:creator>student</dc:creator>
  <dc:description/>
  <dc:language>en-US</dc:language>
  <cp:lastModifiedBy>Сергей</cp:lastModifiedBy>
  <dcterms:modified xsi:type="dcterms:W3CDTF">2013-10-19T15:53:13Z</dcterms:modified>
  <cp:revision>185</cp:revision>
  <dc:subject/>
  <dc:title>Слайд 1</dc:title>
</cp:coreProperties>
</file>